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9AE-0ABA-46BE-BC75-CD29B8F6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E36-9A2A-4DA5-BC8E-B629455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9B3-5037-4DD7-A430-122F2B9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8D9-0094-40EF-AC1D-EFFB9687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7433-9951-4F6C-8ECB-1816654C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1298-00A0-4232-9945-BC57ECF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C045-2EA3-4706-8BB2-4D9DA58C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3943-CA2A-451D-B2CB-4576F7A2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816-B662-4FD6-8D3F-1C50B9D6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01E-032D-409C-A753-35D7129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833-8CC8-40A8-95D5-BD806AA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220-CA9F-45E9-8478-4158472D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D0C-F7DF-4B03-8D39-9F01F9F4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344F-87FE-40E0-B560-450F28F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CC77-12C9-4CF4-97E4-5F67341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4AF8-34D0-461E-9B79-EA5D31BF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53C6-F6B9-477C-AF84-4134B495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6A7-311C-49FC-BEE3-E644071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307-4080-46EE-83B4-2EABCBCE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9C1-7F2F-4C4B-9899-13976446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48B-ED1E-444E-B92E-408E2E4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29D-5BDB-472F-BB78-0F9D0F9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367-C6C2-416B-9D20-4A8B72B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43B-6FA3-41E6-A381-1C1DCB4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4B8A-2833-4602-8E14-7650FDBA15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FE4-DEE2-4BF0-8321-14128728AC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ld of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ing F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03080" y="575316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 David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ves take in carbon dioxide from the ai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exchange they give out oxygen produced during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gases must be able to get in and out of a lea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ves have special structures which allow gas exchan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structures are calle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OMAT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m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ny pores on the surface of a leaf which allow gases in and ou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also allow water to escap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ach pore is a STOMA and is surrounded by 2 GUARD CEL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stomata_ivy" descr=""/>
          <p:cNvPicPr/>
          <p:nvPr/>
        </p:nvPicPr>
        <p:blipFill>
          <a:blip r:embed="rId1"/>
          <a:stretch/>
        </p:blipFill>
        <p:spPr>
          <a:xfrm>
            <a:off x="4419720" y="164160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2362320" y="3962160"/>
            <a:ext cx="609588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657600" y="2361960"/>
            <a:ext cx="2209320" cy="3124080"/>
            <a:chOff x="3657600" y="2361960"/>
            <a:chExt cx="2209320" cy="3124080"/>
          </a:xfrm>
        </p:grpSpPr>
        <p:sp>
          <p:nvSpPr>
            <p:cNvPr id="199" name=""/>
            <p:cNvSpPr/>
            <p:nvPr/>
          </p:nvSpPr>
          <p:spPr>
            <a:xfrm flipV="1">
              <a:off x="3657600" y="2585160"/>
              <a:ext cx="1529640" cy="290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847040" y="2361960"/>
              <a:ext cx="1019880" cy="892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m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stoma%20diagram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leaf is very thin and fla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know it has stomata on it’s surfa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 it’s job is photosynthesis, there must be reasons for it’s desig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ide the leaf there are a number of layers, all with different job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ever, they all help to make photosynthesis as quick and efficient as pos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leaf%20diagram" descr=""/>
          <p:cNvPicPr/>
          <p:nvPr/>
        </p:nvPicPr>
        <p:blipFill>
          <a:blip r:embed="rId1"/>
          <a:srcRect l="10000" t="0" r="0" b="0"/>
          <a:stretch/>
        </p:blipFill>
        <p:spPr>
          <a:xfrm>
            <a:off x="380880" y="971640"/>
            <a:ext cx="8458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af Surf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leafstru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ter 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transport system of a plant does 2 job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is to carry materials needed for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ther is to carry materials produced by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ter 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er and minerals have to be carried from the roots to the leav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leaves water is used in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ubes, in the stem, calle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YLE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vessels carry the water and miner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plant is cut and placed in red dye, it is easy to see where the xylem vessels a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ther job of the plant’s transport system is to carry food from the leaves to every part of the plan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ubes called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HLO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arry the fo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xylem and phloem are usually found close together in bundles calle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ASCULAR BUNDL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osition of the vascular bundles in roots and stems is not the sam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most plants the xylem and phloem are found in the centre of the root, whereas in a stem they are found round the outsid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1924200"/>
            <a:ext cx="6503040" cy="4095720"/>
            <a:chOff x="990720" y="1924200"/>
            <a:chExt cx="6503040" cy="4095720"/>
          </a:xfrm>
        </p:grpSpPr>
        <p:sp>
          <p:nvSpPr>
            <p:cNvPr id="217" name=""/>
            <p:cNvSpPr/>
            <p:nvPr/>
          </p:nvSpPr>
          <p:spPr>
            <a:xfrm>
              <a:off x="990720" y="1981080"/>
              <a:ext cx="3733560" cy="40388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8" name="rootdiagram" descr=""/>
            <p:cNvPicPr/>
            <p:nvPr/>
          </p:nvPicPr>
          <p:blipFill>
            <a:blip r:embed="rId1"/>
            <a:srcRect l="0" t="0" r="32215" b="0"/>
            <a:stretch/>
          </p:blipFill>
          <p:spPr>
            <a:xfrm>
              <a:off x="1066680" y="2057400"/>
              <a:ext cx="36594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638320" y="1924200"/>
              <a:ext cx="185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pidermi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38680" y="2514600"/>
              <a:ext cx="129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Cortex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38680" y="3962520"/>
              <a:ext cx="129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Xyl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02920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Phlo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200040" y="4648320"/>
              <a:ext cx="243828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048120" y="4191120"/>
              <a:ext cx="228600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276360" y="2819520"/>
              <a:ext cx="152388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76360" y="2362320"/>
              <a:ext cx="1600200" cy="15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281952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00600" y="2286000"/>
              <a:ext cx="838080" cy="76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35200" y="137160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oot – Cross S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od Webs and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imals get their food by eating other living th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either eat plants, or eat animals which have eaten pla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ts have to make their own f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energy in the form of food passes from a plant to an animal and then on to another animal, it forms a food chai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we link up all the food chains in an environment we form a food web, e.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port in Pla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7680" y="1447920"/>
            <a:ext cx="37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tem – Cross s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57200" y="2076480"/>
            <a:ext cx="7383600" cy="4248000"/>
            <a:chOff x="457200" y="2076480"/>
            <a:chExt cx="7383600" cy="4248000"/>
          </a:xfrm>
        </p:grpSpPr>
        <p:pic>
          <p:nvPicPr>
            <p:cNvPr id="233" name="DICOTS" descr=""/>
            <p:cNvPicPr/>
            <p:nvPr/>
          </p:nvPicPr>
          <p:blipFill>
            <a:blip r:embed="rId1"/>
            <a:srcRect l="75506" t="37324" r="0" b="0"/>
            <a:stretch/>
          </p:blipFill>
          <p:spPr>
            <a:xfrm>
              <a:off x="457200" y="2300400"/>
              <a:ext cx="4148280" cy="40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 flipH="1">
              <a:off x="3048120" y="2590920"/>
              <a:ext cx="259056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352320" y="3352320"/>
              <a:ext cx="259092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505320" y="4266720"/>
              <a:ext cx="2286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51800" y="2076480"/>
              <a:ext cx="149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Phlo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52160" y="3524400"/>
              <a:ext cx="131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Xyle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52520" y="5048280"/>
              <a:ext cx="19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aeaea"/>
                  </a:solidFill>
                  <a:latin typeface="Times New Roman"/>
                </a:rPr>
                <a:t>Epidermi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Xy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ylem cells are dead and have no cell cont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end walls have disintegr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ide walls have become inlaid with a tough waterproof substance called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GN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gnin is arranged in the side walls usually as rings or spiral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number of these cells laid end to end forms a rigid pip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s adds considerable support to the pl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Xyl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xylemrings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2449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200040" y="2133720"/>
            <a:ext cx="5142600" cy="2286000"/>
            <a:chOff x="3200040" y="2133720"/>
            <a:chExt cx="5142600" cy="2286000"/>
          </a:xfrm>
        </p:grpSpPr>
        <p:sp>
          <p:nvSpPr>
            <p:cNvPr id="245" name=""/>
            <p:cNvSpPr/>
            <p:nvPr/>
          </p:nvSpPr>
          <p:spPr>
            <a:xfrm>
              <a:off x="4804560" y="2133720"/>
              <a:ext cx="35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n this case the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ignin is spiral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200040" y="3505320"/>
              <a:ext cx="29718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Phlo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loem contains 2 types of c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eve tub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anion ce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sieve tubes the end walls are perforated (sieve plate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nds of cytoplasm pass through the pores and allow contact with the next cel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mpanion cells lie next to the sieve tub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e of the Phlo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hloemls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96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green plants photosynthesise they produce oxy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aquatic plants, this oxygen is given off as bubbles which are easily se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anadian pondweed, Elodea, has large spaces in its st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the stem is cut, and the plant is placed in strong light, bubbles of oxygen can be seen coming from the cut e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umber of bubbles produced every minute, i.e. the rate, gives us an idea of how fast the plant is photosynthesis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1295280"/>
            <a:ext cx="6247800" cy="5257440"/>
            <a:chOff x="1219320" y="1295280"/>
            <a:chExt cx="6247800" cy="5257440"/>
          </a:xfrm>
        </p:grpSpPr>
        <p:pic>
          <p:nvPicPr>
            <p:cNvPr id="255" name="elodea" descr=""/>
            <p:cNvPicPr/>
            <p:nvPr/>
          </p:nvPicPr>
          <p:blipFill>
            <a:blip r:embed="rId1"/>
            <a:srcRect l="0" t="7458" r="0" b="0"/>
            <a:stretch/>
          </p:blipFill>
          <p:spPr>
            <a:xfrm>
              <a:off x="1219320" y="1295280"/>
              <a:ext cx="624780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929960" y="5789520"/>
              <a:ext cx="2233080" cy="42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85800" y="2362320"/>
          <a:ext cx="7772400" cy="4140000"/>
        </p:xfrm>
        <a:graphic>
          <a:graphicData uri="http://schemas.openxmlformats.org/drawingml/2006/table">
            <a:tbl>
              <a:tblPr/>
              <a:tblGrid>
                <a:gridCol w="3492720"/>
                <a:gridCol w="4279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ight Intensity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o. of Bubbles / 3 minute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2668680" y="16002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ypical Set of Res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odea Bubb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905120"/>
          <a:ext cx="8305920" cy="46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miting Fa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does not just depend on light, carbon dioxide and a suitable temperature, but also the amounts of each avail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they are in short supply, they cut down or LIMIT the rate of 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ght, water, carbon dioxide and temperature can act a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“Limiting Factors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odland we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9600" y="914400"/>
            <a:ext cx="8551080" cy="4879080"/>
            <a:chOff x="309600" y="914400"/>
            <a:chExt cx="8551080" cy="4879080"/>
          </a:xfrm>
        </p:grpSpPr>
        <p:sp>
          <p:nvSpPr>
            <p:cNvPr id="110" name=""/>
            <p:cNvSpPr/>
            <p:nvPr/>
          </p:nvSpPr>
          <p:spPr>
            <a:xfrm>
              <a:off x="2363400" y="91440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HAW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3600" y="11080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FOX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6480" y="198108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LACKBIRD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7120" y="2514600"/>
              <a:ext cx="15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LUETI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9600" y="403848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INSEC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9600" y="533376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FRUITS &amp; SEED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9600" y="5333760"/>
              <a:ext cx="11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GRAS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33160" y="5333760"/>
              <a:ext cx="196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TREE BARK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9280" y="5333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ROO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6480" y="297180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RABBIT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90560" y="2286000"/>
              <a:ext cx="17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SQUIRRE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6640" y="411480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WOODLIC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5600" y="3886200"/>
              <a:ext cx="156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Times New Roman"/>
                </a:rPr>
                <a:t>BEETLES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600200" y="4419000"/>
              <a:ext cx="304920" cy="838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371600" y="2895120"/>
              <a:ext cx="457200" cy="10666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295280" y="1294920"/>
              <a:ext cx="1447920" cy="1143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733920" y="3429000"/>
              <a:ext cx="914400" cy="1828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029200" y="1523880"/>
              <a:ext cx="2133720" cy="14479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048120" y="1294920"/>
              <a:ext cx="914400" cy="6858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590920" y="2437920"/>
              <a:ext cx="990360" cy="28954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38080" y="2666880"/>
              <a:ext cx="6705720" cy="2666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5409720" y="4343400"/>
              <a:ext cx="381240" cy="9144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324480" y="4495320"/>
              <a:ext cx="990720" cy="7621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00200" y="2895120"/>
              <a:ext cx="6324480" cy="121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1523520" y="2971440"/>
              <a:ext cx="2971800" cy="1143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7314840" y="1447200"/>
              <a:ext cx="685800" cy="838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458200" y="2818800"/>
              <a:ext cx="76320" cy="25146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80920" y="1294920"/>
              <a:ext cx="3886200" cy="10666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56480" y="579132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f some of the plants in this web were to disappear it woul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ave a major effect on other organism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lants and Ligh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ts manufacture their own food in a process called 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PHOTOSYNTHESI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a plant carries out photosynthesis it combines simple substances to make more complex substances like glucose and st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is carried out in the leaves of a pla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440" y="5105520"/>
            <a:ext cx="54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O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YNTHESI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0000" y="57913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(Light)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     (To buil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3520" y="3505320"/>
            <a:ext cx="8222400" cy="1697400"/>
            <a:chOff x="533520" y="3505320"/>
            <a:chExt cx="8222400" cy="1697400"/>
          </a:xfrm>
        </p:grpSpPr>
        <p:grpSp>
          <p:nvGrpSpPr>
            <p:cNvPr id="145" name=""/>
            <p:cNvGrpSpPr/>
            <p:nvPr/>
          </p:nvGrpSpPr>
          <p:grpSpPr>
            <a:xfrm>
              <a:off x="533520" y="3505320"/>
              <a:ext cx="8222400" cy="1068840"/>
              <a:chOff x="533520" y="3505320"/>
              <a:chExt cx="8222400" cy="1068840"/>
            </a:xfrm>
          </p:grpSpPr>
          <p:sp>
            <p:nvSpPr>
              <p:cNvPr id="146" name=""/>
              <p:cNvSpPr/>
              <p:nvPr/>
            </p:nvSpPr>
            <p:spPr>
              <a:xfrm>
                <a:off x="533520" y="3505320"/>
                <a:ext cx="15156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Carbo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Dioxide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11480" y="350532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43200" y="3505320"/>
                <a:ext cx="1290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Water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258160" y="3505320"/>
                <a:ext cx="156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Glucose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20280" y="350532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38520" y="3505320"/>
                <a:ext cx="151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Oxygen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3638520"/>
                <a:ext cx="1066680" cy="381240"/>
              </a:xfrm>
              <a:prstGeom prst="rightArrow">
                <a:avLst>
                  <a:gd name="adj1" fmla="val 50000"/>
                  <a:gd name="adj2" fmla="val 69948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923760" y="4572360"/>
              <a:ext cx="7535880" cy="630360"/>
              <a:chOff x="923760" y="4572360"/>
              <a:chExt cx="7535880" cy="63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923760" y="4572360"/>
                <a:ext cx="89568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C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56760" y="4572360"/>
                <a:ext cx="9187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H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20600" y="4572360"/>
                <a:ext cx="152388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6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H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12</a:t>
                </a: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58080" y="4572360"/>
                <a:ext cx="60156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ff"/>
                    </a:solidFill>
                    <a:latin typeface="Times New Roman"/>
                  </a:rPr>
                  <a:t>O</a:t>
                </a:r>
                <a:r>
                  <a:rPr b="1" lang="en-US" sz="2800" spc="-1" strike="noStrike" baseline="-25000">
                    <a:solidFill>
                      <a:srgbClr val="ff66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533520" y="1295280"/>
            <a:ext cx="3857040" cy="2411640"/>
            <a:chOff x="533520" y="1295280"/>
            <a:chExt cx="3857040" cy="2411640"/>
          </a:xfrm>
        </p:grpSpPr>
        <p:sp>
          <p:nvSpPr>
            <p:cNvPr id="159" name=""/>
            <p:cNvSpPr/>
            <p:nvPr/>
          </p:nvSpPr>
          <p:spPr>
            <a:xfrm>
              <a:off x="1980360" y="1828800"/>
              <a:ext cx="241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Light ener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2"/>
            </p:cNvCxnSpPr>
            <p:nvPr/>
          </p:nvCxnSpPr>
          <p:spPr>
            <a:xfrm flipH="1" rot="16200000">
              <a:off x="3113640" y="2479320"/>
              <a:ext cx="1299240" cy="1156680"/>
            </a:xfrm>
            <a:prstGeom prst="curvedConnector5">
              <a:avLst>
                <a:gd name="adj1" fmla="val 72838"/>
                <a:gd name="adj2" fmla="val 50000"/>
                <a:gd name="adj3" fmla="val 72838"/>
              </a:avLst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533520" y="1295280"/>
              <a:ext cx="1447560" cy="13716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62120" y="5105160"/>
            <a:ext cx="8001000" cy="533160"/>
            <a:chOff x="762120" y="5105160"/>
            <a:chExt cx="8001000" cy="533160"/>
          </a:xfrm>
        </p:grpSpPr>
        <p:sp>
          <p:nvSpPr>
            <p:cNvPr id="163" name=""/>
            <p:cNvSpPr/>
            <p:nvPr/>
          </p:nvSpPr>
          <p:spPr>
            <a:xfrm rot="16200000">
              <a:off x="2286000" y="3580920"/>
              <a:ext cx="533160" cy="35812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3240 h 3581280"/>
                <a:gd name="textAreaBottom" fmla="*/ 34880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00"/>
                  </a:lnTo>
                  <a:cubicBezTo>
                    <a:pt x="10800" y="9600"/>
                    <a:pt x="5400" y="10500"/>
                    <a:pt x="0" y="10500"/>
                  </a:cubicBezTo>
                  <a:cubicBezTo>
                    <a:pt x="5400" y="10500"/>
                    <a:pt x="10800" y="11400"/>
                    <a:pt x="10800" y="123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6705720" y="3580920"/>
              <a:ext cx="533160" cy="35816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00"/>
                  </a:lnTo>
                  <a:cubicBezTo>
                    <a:pt x="10800" y="9600"/>
                    <a:pt x="5400" y="10500"/>
                    <a:pt x="0" y="10500"/>
                  </a:cubicBezTo>
                  <a:cubicBezTo>
                    <a:pt x="5400" y="10500"/>
                    <a:pt x="10800" y="11400"/>
                    <a:pt x="10800" y="123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94200" y="5638680"/>
            <a:ext cx="6558840" cy="581400"/>
            <a:chOff x="1294200" y="5638680"/>
            <a:chExt cx="6558840" cy="581400"/>
          </a:xfrm>
        </p:grpSpPr>
        <p:sp>
          <p:nvSpPr>
            <p:cNvPr id="166" name=""/>
            <p:cNvSpPr/>
            <p:nvPr/>
          </p:nvSpPr>
          <p:spPr>
            <a:xfrm>
              <a:off x="1294200" y="5638680"/>
              <a:ext cx="275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Raw Material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11720" y="5638680"/>
              <a:ext cx="174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33"/>
                  </a:solidFill>
                  <a:latin typeface="Times New Roman"/>
                </a:rPr>
                <a:t>Products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otosynthesis CANNOT work withou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ophy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nligh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9320" y="4743360"/>
            <a:ext cx="77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If any of the above are in short supply the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are said to be “Limiting Factors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65360"/>
            <a:ext cx="83059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can check for evidence of photosynthesis by testing a leaf for st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 the leaf in water (kills c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 the leaf in alcohol (removes chlorophy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p leaf in hot water (softens the lea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leaf in iodine solution (test for starch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600" y="1447920"/>
            <a:ext cx="87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o what happens to the sugar made in the leav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720" y="2133720"/>
            <a:ext cx="51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can be used in a number of wa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76720" y="3505320"/>
            <a:ext cx="1828800" cy="990360"/>
            <a:chOff x="3276720" y="3505320"/>
            <a:chExt cx="1828800" cy="990360"/>
          </a:xfrm>
        </p:grpSpPr>
        <p:sp>
          <p:nvSpPr>
            <p:cNvPr id="177" name=""/>
            <p:cNvSpPr/>
            <p:nvPr/>
          </p:nvSpPr>
          <p:spPr>
            <a:xfrm>
              <a:off x="3276720" y="3505320"/>
              <a:ext cx="1676520" cy="99036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9000" y="365760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ugar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06360" y="3352680"/>
            <a:ext cx="2970360" cy="1800360"/>
            <a:chOff x="306360" y="3352680"/>
            <a:chExt cx="2970360" cy="1800360"/>
          </a:xfrm>
        </p:grpSpPr>
        <p:sp>
          <p:nvSpPr>
            <p:cNvPr id="180" name=""/>
            <p:cNvSpPr/>
            <p:nvPr/>
          </p:nvSpPr>
          <p:spPr>
            <a:xfrm>
              <a:off x="306360" y="3352680"/>
              <a:ext cx="269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Used as building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Material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(e.g. cellulos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in cell walls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4038480"/>
              <a:ext cx="1067040" cy="457200"/>
            </a:xfrm>
            <a:prstGeom prst="leftArrow">
              <a:avLst>
                <a:gd name="adj1" fmla="val 50000"/>
                <a:gd name="adj2" fmla="val 58346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050640" y="4495680"/>
            <a:ext cx="2895120" cy="1861560"/>
            <a:chOff x="3050640" y="4495680"/>
            <a:chExt cx="2895120" cy="1861560"/>
          </a:xfrm>
        </p:grpSpPr>
        <p:sp>
          <p:nvSpPr>
            <p:cNvPr id="183" name=""/>
            <p:cNvSpPr/>
            <p:nvPr/>
          </p:nvSpPr>
          <p:spPr>
            <a:xfrm>
              <a:off x="3050640" y="5410080"/>
              <a:ext cx="2895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Used immediatel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For energ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4495680"/>
              <a:ext cx="533520" cy="990720"/>
            </a:xfrm>
            <a:prstGeom prst="downArrow">
              <a:avLst>
                <a:gd name="adj1" fmla="val 50000"/>
                <a:gd name="adj2" fmla="val 46424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952880" y="2971800"/>
            <a:ext cx="3890520" cy="2226960"/>
            <a:chOff x="4952880" y="2971800"/>
            <a:chExt cx="3890520" cy="2226960"/>
          </a:xfrm>
        </p:grpSpPr>
        <p:sp>
          <p:nvSpPr>
            <p:cNvPr id="186" name=""/>
            <p:cNvSpPr/>
            <p:nvPr/>
          </p:nvSpPr>
          <p:spPr>
            <a:xfrm>
              <a:off x="5946840" y="2971800"/>
              <a:ext cx="28965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Stored as starch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And Converted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back when Sugar 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is needed by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aeaea"/>
                  </a:solidFill>
                  <a:latin typeface="Times New Roman"/>
                </a:rPr>
                <a:t>Plant.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52880" y="3886200"/>
              <a:ext cx="990720" cy="609480"/>
            </a:xfrm>
            <a:prstGeom prst="leftRightArrow">
              <a:avLst>
                <a:gd name="adj1" fmla="val 50000"/>
                <a:gd name="adj2" fmla="val 32359"/>
              </a:avLst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hotosynthe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676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a plant is converting carbon dioxide and water to carbohydrate, then it’s weight should increa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9718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f a plant is dried out and weighed, it’s weight increases during a da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419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is is done by taking discs from a leaf at different times of the day, drying them and weighing the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09:26:59Z</dcterms:created>
  <dc:creator>Tobermory</dc:creator>
  <dc:description/>
  <dc:language>en-US</dc:language>
  <cp:lastModifiedBy>Masterclass</cp:lastModifiedBy>
  <dcterms:modified xsi:type="dcterms:W3CDTF">2003-06-16T12:11:08Z</dcterms:modified>
  <cp:revision>27</cp:revision>
  <dc:subject/>
  <dc:title>World of Plants</dc:title>
</cp:coreProperties>
</file>